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0C64-4226-43A7-AF83-F2F1B7E80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E62-1A8E-46E3-B8C7-5E918EB3A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517-3A23-4645-A199-B934A53A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72F7-87BF-4A3F-9CED-14122021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8C4-99D0-4FA7-A7A9-1DC20AF1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1D9-E7D6-4A45-91D4-EA2A23D0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0B1-0222-4CF6-8A59-33B222B1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3E7E-AF02-49B7-B74D-19710E94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425-5B2F-4C60-A768-E974DCF4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349-484B-4F01-AF84-99F8DF19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2BC-7215-4835-A8A1-07030DAE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B33-9414-4887-826E-A68C5EA6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60B-83F2-4CE5-9274-D11298B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9F1-EF99-41C5-BEED-DC5C99F8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D887-DF77-4DCC-B24B-A26A2B286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ch plant focuses on only one or a fe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5 Which of the following statements about the manufacture of American cars is tr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are relatively few plants in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Each plant focuses on only one or a few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lants are located near each maj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opolitan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lants are more dispersed now than they were in the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merican cars face little foreign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1_12b"/>
          <p:cNvPicPr/>
          <p:nvPr/>
        </p:nvPicPr>
        <p:blipFill>
          <a:blip r:embed="rId1"/>
          <a:stretch/>
        </p:blipFill>
        <p:spPr>
          <a:xfrm>
            <a:off x="2590920" y="762120"/>
            <a:ext cx="4038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6 The cheapest way to transport goods over long distances is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ad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ext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7 Which type of manufacturing requires the lowest level of ski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utomobi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exti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irpla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nsumer electron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8 It is especially important for aluminum processors to locate 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avigable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Cheap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expensi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jor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eer brewe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9 Within the United States, manufacturing has been most likely to shift in which of the following dire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orth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ufacturing has tended to sta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west and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eads to an increase in manufacturing job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10 Outsou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ne aspect of vertic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not yet become important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Leads to an increase in manufacturing job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upported my most American polit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ohibited by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1 This country led the world in manufacturing in the nineteenth centu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2 By the late nineteenth century, this country had mad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gress toward industrial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lg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3 Industrialization in the United States beg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ddle Atlantic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New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04 Beer brewing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 bulk-gain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bulk-reduc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concerned with bu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tributed fairly evenly around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affected by sit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dcterms:modified xsi:type="dcterms:W3CDTF">2014-05-13T16:53:43Z</dcterms:modified>
  <cp:revision>86</cp:revision>
  <dc:subject/>
  <dc:title>CRS Chapter 4</dc:title>
</cp:coreProperties>
</file>